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BE48-15CF-47F2-ABEF-ED06688005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F590-5E54-4962-8A5F-2F6AF5A3B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B31-D180-4DE0-B1CE-2AE96217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B68-6D0C-440F-BFD0-4204B535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589-0E0D-45D3-9DDA-6D2A6C40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8F0-C114-44B5-BB08-0D0C6DC7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1C76-3436-4541-9D27-DF482674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EE88-ADA2-4679-B2AF-B5DB79D1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3580-2B8B-40CB-8BD6-4932D6CD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BCD6-91A5-4C2C-9818-5D353575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63AA-CDF8-424E-9B38-829E2B34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9FFD-4844-433C-989A-3FE51E05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A9C8-6099-4AAE-9127-91749962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D59-1A7C-45B9-9C9F-380EB11C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DA3F-12C6-4E91-A66A-44219003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0A85-B380-4220-AEE4-0FAA6205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19C1-784E-4F90-B598-AF1EA0CC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3075-FC45-4345-8A4D-49F7E6C7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906B-0771-453F-9AD5-6AD0A36C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36108-904B-4085-A5AF-8DC1C34B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61DB-1D88-44A5-8E25-A8F81285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D2CE1-523E-4D55-8716-773E9803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F2BAD-DD1C-4DE4-A177-9579DB3B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51D9D-56F4-4C0D-9915-D91E0FFC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141-05B6-4A27-9984-A764FA38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F52EB-24ED-4CAF-97FE-84D119B5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F405E-ADFE-4267-88F4-EE6E8FB0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F27C1-6214-46FF-9F4E-AEBD1422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6B8FA-366F-4E43-8962-32C1DD28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103D-F897-428D-8D2F-7149E858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6A220-FA76-45DE-A320-7DF73E9E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0400D-CF06-409E-A966-18C04BB0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98780-5EB4-4E4A-BE78-C3078BD6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4476A-9234-4499-BD36-9389C688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4BD06-9514-49FB-9031-744C4D0F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923-BF79-4BBA-954C-910865F4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EE097-2661-45EC-82EC-1AEDC40E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30860-62E7-4A70-AF46-5C6D12BD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BC8E9-70EA-4C82-BBC7-28D97B10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96E0E-F099-43A9-9D65-9960F823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3D88D-12E3-48B9-BA80-4FC2F05C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4AE91-B38B-4E4E-85A6-6C0D70CA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B6683-9531-4392-B957-7C6CA44B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B27AB-6981-419F-AAB4-B6DF081A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733DA-083E-4C48-9D46-93CE74E1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A2A9A-399C-4C40-9566-21938220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634-5AEE-49CC-8A20-B804A53A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1232A-D2A7-4B3E-81EE-B973E9AF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119EB-F8E1-4D8F-B61A-308284CE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FD083-6C98-4014-895B-BC7F0959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647EC-964E-4C03-9779-B18F6F85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098D5-E020-4025-973C-6E97D5F2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1C3D4-190D-4910-9210-D4211F37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4E1AA-3335-4CC3-B129-0EBAD473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F0E97-9582-4013-A2C1-699AF4B0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E1EB7-0D98-4B1E-A6D8-65E83F92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4B3E6-C362-4FB8-91AA-ABE7243E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D54-4F55-4226-A18A-021A1178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D3FB7-ABE6-40D5-AC9C-8A9DAF5C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282-CFFF-4B07-8E76-49DB3E76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159-8D98-4B86-84D9-0E376A14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534-C477-4A90-97E6-4F3EC5C5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DB20-391C-4880-A314-0BDE0DC876B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8E30-1170-4006-A69F-B16F24B24B0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CA49-9E1C-4FCE-8988-389C98B9C05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63EB-9A0A-4B39-951D-3FB0A682096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D4EE-5539-4CED-AF58-1F96CA7A783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2719440" y="228600"/>
            <a:ext cx="37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МБОУ "СОШ №5» МО «ЛМР» 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3193920" y="1143000"/>
            <a:ext cx="2756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ИЧЕСКАЯ ПИЦ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C:\Users\HP\Desktop\Pizza-vector-clipart.png"/>
          <p:cNvPicPr/>
          <p:nvPr/>
        </p:nvPicPr>
        <p:blipFill>
          <a:blip r:embed="rId1"/>
          <a:stretch/>
        </p:blipFill>
        <p:spPr>
          <a:xfrm>
            <a:off x="2590920" y="2438280"/>
            <a:ext cx="4010040" cy="23814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2286000" y="502128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ла учитель 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иев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ajedrez-6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371600" y="914400"/>
            <a:ext cx="7162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КРУЖАЮЩИЙ МИР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Кроссворды, загад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304920" y="1219320"/>
            <a:ext cx="393048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Fol03wVIgC-1280x720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учение грамот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423360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Буква Г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А буквой «Г» - так шахматисты говорят   (Конь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рыгнет Конь. Подковы звяк!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Необычен каждый шаг: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Буква «Г» и так и сяк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олучается зигзаг!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409720" y="579600"/>
            <a:ext cx="31734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ногозначные сл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304920" y="1905120"/>
            <a:ext cx="3352680" cy="1858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4724280" y="1523880"/>
            <a:ext cx="1371600" cy="952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5"/>
          <p:cNvPicPr/>
          <p:nvPr/>
        </p:nvPicPr>
        <p:blipFill>
          <a:blip r:embed="rId4"/>
          <a:stretch/>
        </p:blipFill>
        <p:spPr>
          <a:xfrm>
            <a:off x="8458200" y="1600200"/>
            <a:ext cx="2025720" cy="1828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5"/>
          <a:stretch/>
        </p:blipFill>
        <p:spPr>
          <a:xfrm>
            <a:off x="6248520" y="2666880"/>
            <a:ext cx="12477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Графический диктан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Одна клеточка вправо – поставьте начальную точку,1 – вправо, 1 – вниз, 1 – вправо, 1 – вверх, 1 – вправо, 1 – вниз, 1 – вправо, 1 – вверх, 1 –вправо, 3 – вниз, 1 – влево, 4 – вниз, 1 – вправо, 2 – вниз, 5 – влево, 2 – вверх, 1 – вправо, 4 – вверх, 1 – влево, 3 – вверх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4908600" y="1828800"/>
            <a:ext cx="3628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5c00"/>
                </a:solidFill>
                <a:latin typeface="Verdana"/>
              </a:rPr>
              <a:t>Литературное чт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782800" y="2516040"/>
          <a:ext cx="3578400" cy="1825920"/>
        </p:xfrm>
        <a:graphic>
          <a:graphicData uri="http://schemas.openxmlformats.org/drawingml/2006/table">
            <a:tbl>
              <a:tblPr/>
              <a:tblGrid>
                <a:gridCol w="428760"/>
                <a:gridCol w="449280"/>
                <a:gridCol w="450720"/>
                <a:gridCol w="449280"/>
                <a:gridCol w="450720"/>
                <a:gridCol w="449280"/>
                <a:gridCol w="451080"/>
                <a:gridCol w="449280"/>
              </a:tblGrid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5" name="Picture 4" descr="C:\Users\HP\Desktop\pizza-slices-clip-art-images-1024x567.jpg"/>
          <p:cNvPicPr/>
          <p:nvPr/>
        </p:nvPicPr>
        <p:blipFill>
          <a:blip r:embed="rId1"/>
          <a:stretch/>
        </p:blipFill>
        <p:spPr>
          <a:xfrm>
            <a:off x="762120" y="838080"/>
            <a:ext cx="28033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7" name="Содержимое 4" descr=""/>
          <p:cNvPicPr/>
          <p:nvPr/>
        </p:nvPicPr>
        <p:blipFill>
          <a:blip r:embed="rId1"/>
          <a:stretch/>
        </p:blipFill>
        <p:spPr>
          <a:xfrm>
            <a:off x="506520" y="523800"/>
            <a:ext cx="3943080" cy="4402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найди словарные слова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обведи их красным цвето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спиши слова в тетрадь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обменяйтесь тетрадями с соседом по плеч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проверь сосед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838080" y="1981080"/>
            <a:ext cx="28036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ЗО,ТЕХНОЛОГ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зор в полос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зор в квадра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иммет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819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ЯТНОГО АППЕТИТА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140080" cy="31082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1295280" y="914040"/>
            <a:ext cx="3322800" cy="4465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2" descr="C:\Users\HP\Desktop\Pizza-vector-clipart.png"/>
          <p:cNvPicPr/>
          <p:nvPr/>
        </p:nvPicPr>
        <p:blipFill>
          <a:blip r:embed="rId2"/>
          <a:stretch/>
        </p:blipFill>
        <p:spPr>
          <a:xfrm>
            <a:off x="6103800" y="3657600"/>
            <a:ext cx="30402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304920" y="152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 в шахматы вырабатывает в человеке целеустремленность, волю, выносливость, терпение, способность к концентрации внимания, смелость, расчет, умение быстро и правильно принимать решения в меняющейся обстанов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304920" y="45720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й во всем мире шахматист А.Алехин писа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Шахматы не только знание и логика, но и глубокая фантазия. Посредством шахмат я воспитал свой характер. Шахматы не просто модель жизни, 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дель творчества. Шахматы, прежде всего, учат быть объективными. В шахматах можно сделаться большим мастером, лишь осознав свои ошибки и недостатки. Совершенно также как и в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6" name="Группа 2"/>
          <p:cNvGrpSpPr/>
          <p:nvPr/>
        </p:nvGrpSpPr>
        <p:grpSpPr>
          <a:xfrm>
            <a:off x="762120" y="457200"/>
            <a:ext cx="7543800" cy="5486400"/>
            <a:chOff x="762120" y="457200"/>
            <a:chExt cx="7543800" cy="5486400"/>
          </a:xfrm>
        </p:grpSpPr>
        <p:pic>
          <p:nvPicPr>
            <p:cNvPr id="237" name="Рисунок 24" descr="&amp;Fcy;&amp;ocy;&amp;tcy;&amp;ocy; 16"/>
            <p:cNvPicPr/>
            <p:nvPr/>
          </p:nvPicPr>
          <p:blipFill>
            <a:blip r:embed="rId2"/>
            <a:stretch/>
          </p:blipFill>
          <p:spPr>
            <a:xfrm>
              <a:off x="762120" y="457200"/>
              <a:ext cx="75438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Прямоугольник 4"/>
            <p:cNvSpPr/>
            <p:nvPr/>
          </p:nvSpPr>
          <p:spPr>
            <a:xfrm>
              <a:off x="894600" y="5315040"/>
              <a:ext cx="307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tp://www.kraskidetstva.ru/akcii1/zhivi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ДОБРО ПОЖАЛОВАТЬ!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1" name="Picture 2" descr="C:\Users\HP\Desktop\Pizza-vector-clipart.png"/>
          <p:cNvPicPr/>
          <p:nvPr/>
        </p:nvPicPr>
        <p:blipFill>
          <a:blip r:embed="rId1"/>
          <a:stretch/>
        </p:blipFill>
        <p:spPr>
          <a:xfrm>
            <a:off x="2514600" y="3886200"/>
            <a:ext cx="4106880" cy="2438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Users\HP\Desktop\Pizza-vector-clipart.png"/>
          <p:cNvPicPr/>
          <p:nvPr/>
        </p:nvPicPr>
        <p:blipFill>
          <a:blip r:embed="rId2"/>
          <a:stretch/>
        </p:blipFill>
        <p:spPr>
          <a:xfrm>
            <a:off x="2666880" y="4038480"/>
            <a:ext cx="4106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3000" y="579240"/>
            <a:ext cx="3930480" cy="15541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Давайте вспомним ценность шахматных фигур и вспомним состав чисел: 7, 13,9,15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Ладья – 5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Конь – 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Слон – 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Ферзь – 9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ешка – 1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C:\Users\HP\Desktop\pkc86jirG.jpg"/>
          <p:cNvPicPr/>
          <p:nvPr/>
        </p:nvPicPr>
        <p:blipFill>
          <a:blip r:embed="rId1"/>
          <a:stretch/>
        </p:blipFill>
        <p:spPr>
          <a:xfrm>
            <a:off x="533520" y="2971800"/>
            <a:ext cx="3930480" cy="184788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9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3429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09480" y="579240"/>
            <a:ext cx="7974000" cy="15541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"Симметрия.Ось симметрии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Содержимое 8" descr="https://arhivurokov.ru/kopilka/uploads/user_file_566a958be11f1/user_file_566a958be11f1_1_4.png"/>
          <p:cNvPicPr/>
          <p:nvPr/>
        </p:nvPicPr>
        <p:blipFill>
          <a:blip r:embed="rId1"/>
          <a:stretch/>
        </p:blipFill>
        <p:spPr>
          <a:xfrm>
            <a:off x="5189400" y="2406600"/>
            <a:ext cx="2857680" cy="157176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11" descr="https://arhivurokov.ru/kopilka/up/html/2017/05/11/k_5913dbdf638f8/414323_11.png"/>
          <p:cNvPicPr/>
          <p:nvPr/>
        </p:nvPicPr>
        <p:blipFill>
          <a:blip r:embed="rId2"/>
          <a:stretch/>
        </p:blipFill>
        <p:spPr>
          <a:xfrm>
            <a:off x="1066680" y="2590920"/>
            <a:ext cx="21639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i2"/>
          <p:cNvPicPr/>
          <p:nvPr/>
        </p:nvPicPr>
        <p:blipFill>
          <a:blip r:embed="rId2"/>
          <a:stretch/>
        </p:blipFill>
        <p:spPr>
          <a:xfrm>
            <a:off x="1981080" y="990720"/>
            <a:ext cx="5181840" cy="51051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1219320" y="6019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ахматная до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– 2 =    4 (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 – 2 =   2  (Ч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 + 3 =    10 (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 – 5 =   3   (Р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 + 1 =   8   (Г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+ 2 =  5    (У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 – 2 =  6    (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653000" y="1069920"/>
          <a:ext cx="3930480" cy="1119240"/>
        </p:xfrm>
        <a:graphic>
          <a:graphicData uri="http://schemas.openxmlformats.org/drawingml/2006/table">
            <a:tbl>
              <a:tblPr/>
              <a:tblGrid>
                <a:gridCol w="436680"/>
                <a:gridCol w="334800"/>
                <a:gridCol w="538200"/>
                <a:gridCol w="436680"/>
                <a:gridCol w="438120"/>
                <a:gridCol w="436320"/>
                <a:gridCol w="436680"/>
                <a:gridCol w="436680"/>
                <a:gridCol w="436320"/>
              </a:tblGrid>
              <a:tr h="75096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682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261" name="Picture 2" descr="http://content.foto.mail.ru/mail/hg.bambus/14/h-62.jpg"/>
          <p:cNvPicPr/>
          <p:nvPr/>
        </p:nvPicPr>
        <p:blipFill>
          <a:blip r:embed="rId1"/>
          <a:stretch/>
        </p:blipFill>
        <p:spPr>
          <a:xfrm>
            <a:off x="5181480" y="2514600"/>
            <a:ext cx="29718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18-03-25T10:28:41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